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3A4-DE2A-40CB-B955-1B20B899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408-3545-4D05-A00C-4CE6F2C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03-EB41-4EC3-9B9B-9CFBA81A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6A9-3293-4A61-B978-B88F09A6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996-3A46-4390-8EA9-E046F365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E4A-5F9F-4C72-8F3D-BB0F5D5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5BB3-6557-49F6-83C6-A28E84D4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540C-B9DD-4D0E-8BE8-6DD29B5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87EE-9244-413A-A198-D23AD30D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7E08-A9C1-42BE-96E3-966CF475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F524-5B82-475A-92E8-96937B9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D5C-8A80-43DA-8AFA-4AC92DB2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05B1-DC18-4584-87B6-0DAC76E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E9CF-1F3D-41C4-9191-53CA295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396A-57FF-45FC-B103-66D3C44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BD46-DA52-4F6B-AFD9-BC549AE5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1E5C-5028-418C-A064-FF031AC4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66D3-2797-41E6-8367-B356EF51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0D57-EC91-406C-A4B4-344CE61F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1D0A-C894-4466-98C5-6DBD7D0C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0616-3A0D-4651-800F-0E2DC770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832F-959B-4E40-A9CE-6CDFEB1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E30-EE5D-41F4-BCF7-9AC9533D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B3CC-391F-4E02-8856-A74C7FF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6F5B-FC39-41DA-A91F-0C2B4BE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221C-EA52-4D26-B56F-BD21B66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4EF7-17C9-4623-9CAA-A822B85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F912-84E3-46E5-B4D1-B22F170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EF30-F87E-47F5-883D-E7E6462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D9E3-9644-4016-BA89-3B9A0F58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CF9C-E682-45A9-8A0D-3C2C7315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D204-04F2-41D0-8AB4-E8B0093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9F16-B676-4529-80DF-AF2655F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BA0-26F9-4A27-BADC-B52EED14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E0CA-DA37-41DB-9B40-3A997F6C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8D54-CBC3-4C53-83BB-F75F53D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AEE3-636C-4CCD-B8E0-955C8123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6537-6101-47C8-9487-2411D950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D4C8-AF80-431A-A141-FA79C86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3DE1-2473-45E7-9DB0-5829AFE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8456-D0A7-4800-A64B-9207CDCC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DB46-3770-45CA-8994-07795832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64F8-96EA-4731-9270-62E01D87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75A-C8F5-4D6D-9178-DCE84EAC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FD4-AB46-4F04-B5C4-D689462E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823-BC5B-4989-8C8C-2A34A25F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9FB-1B2E-4D27-8171-0465E331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537-183F-4FF0-A507-15191F1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B114D-E3F0-4DB6-8C7E-25AD88C16764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D35F8-129B-4AE8-922D-42D0D997B532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9EDEE-81C0-4D94-9E95-A1D82132B488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5EE26-5025-4824-B40D-F2D33A5DFE23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КАВИТЕТА I</a:t>
            </a:r>
            <a:r>
              <a:rPr b="1" lang="sr-Latn-RS" sz="4000" spc="-1" strike="noStrike">
                <a:solidFill>
                  <a:srgbClr val="1e5155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 КЛАСЕ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IV КЛАСЕ.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ВАРИЈАНТЕ КАВИТЕТА IV КЛАСЕ: СА ГИНГИВАСЛНИМ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СТЕПЕНИКОМ, СА ИНЦИЗАЛНИМ СТРЕПЕНИК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84200" y="1467000"/>
            <a:ext cx="658656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акромеханичк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стин ре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и жљебов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е тачк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апулп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ал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Content Placeholder 3"/>
          <p:cNvSpPr/>
          <p:nvPr/>
        </p:nvSpPr>
        <p:spPr>
          <a:xfrm>
            <a:off x="484200" y="4819680"/>
            <a:ext cx="53020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икромеханич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7% фосфорна кис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ли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2" descr="http://pocketdentistry.com/wp-content/uploads/285/img0357.jpg"/>
          <p:cNvPicPr/>
          <p:nvPr/>
        </p:nvPicPr>
        <p:blipFill>
          <a:blip r:embed="rId1"/>
          <a:stretch/>
        </p:blipFill>
        <p:spPr>
          <a:xfrm>
            <a:off x="6781680" y="1467000"/>
            <a:ext cx="1935360" cy="223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akiselinom"/>
          <p:cNvPicPr/>
          <p:nvPr/>
        </p:nvPicPr>
        <p:blipFill>
          <a:blip r:embed="rId2"/>
          <a:stretch/>
        </p:blipFill>
        <p:spPr>
          <a:xfrm>
            <a:off x="4741920" y="3922560"/>
            <a:ext cx="426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ЛАСТИН РЕП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84200" y="1467000"/>
            <a:ext cx="6094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астин реп треба да се налази 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средњој тећини инцизо- гингивног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омера крунице зуб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јер не угрожава инцизалну ивицуу нити пулп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зио-дисталном правцу код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већих зуба до медијалне линиј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а код мањих прелзи м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лну линиј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Одупире се мазио-дисталним и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стибуло-оралним силам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идови су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улпни, инцизални, гингивални, апроксимални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иолошки облик кавитет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6754680" y="1165320"/>
            <a:ext cx="2279880" cy="30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578640" y="4262400"/>
            <a:ext cx="2367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4930920" y="1467000"/>
            <a:ext cx="2609640" cy="2981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sD11 copy"/>
          <p:cNvPicPr/>
          <p:nvPr/>
        </p:nvPicPr>
        <p:blipFill>
          <a:blip r:embed="rId2"/>
          <a:stretch/>
        </p:blipFill>
        <p:spPr>
          <a:xfrm>
            <a:off x="3268800" y="444816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1717560" y="1467000"/>
            <a:ext cx="2579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D5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8" name="Picture 4" descr="4Kl02"/>
          <p:cNvPicPr/>
          <p:nvPr/>
        </p:nvPicPr>
        <p:blipFill>
          <a:blip r:embed="rId1"/>
          <a:stretch/>
        </p:blipFill>
        <p:spPr>
          <a:xfrm>
            <a:off x="5610240" y="1725480"/>
            <a:ext cx="28656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731880" y="1779480"/>
            <a:ext cx="4014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1" name="Picture 2" descr="Rezultat slika za incisor fracture frc post"/>
          <p:cNvPicPr/>
          <p:nvPr/>
        </p:nvPicPr>
        <p:blipFill>
          <a:blip r:embed="rId1"/>
          <a:stretch/>
        </p:blipFill>
        <p:spPr>
          <a:xfrm>
            <a:off x="2584440" y="130500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8680" y="4127400"/>
            <a:ext cx="8890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4" name="Picture 2" descr="http://www.styleitaliano.org/uploaded_images/articles/11203/b65b4af0.jpg"/>
          <p:cNvPicPr/>
          <p:nvPr/>
        </p:nvPicPr>
        <p:blipFill>
          <a:blip r:embed="rId1"/>
          <a:stretch/>
        </p:blipFill>
        <p:spPr>
          <a:xfrm>
            <a:off x="231840" y="1419120"/>
            <a:ext cx="2948040" cy="1965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www.styleitaliano.org/uploaded_images/articles/11203/f257dbf4.jpg"/>
          <p:cNvPicPr/>
          <p:nvPr/>
        </p:nvPicPr>
        <p:blipFill>
          <a:blip r:embed="rId2"/>
          <a:stretch/>
        </p:blipFill>
        <p:spPr>
          <a:xfrm>
            <a:off x="3322800" y="1419120"/>
            <a:ext cx="2887560" cy="197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http://www.styleitaliano.org/uploaded_images/articles/11203/baa7c43f.jpg"/>
          <p:cNvPicPr/>
          <p:nvPr/>
        </p:nvPicPr>
        <p:blipFill>
          <a:blip r:embed="rId3"/>
          <a:stretch/>
        </p:blipFill>
        <p:spPr>
          <a:xfrm>
            <a:off x="6332400" y="1419120"/>
            <a:ext cx="2660760" cy="1965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http://www.styleitaliano.org/uploaded_images/articles/11203/adfe31db.jpg"/>
          <p:cNvPicPr/>
          <p:nvPr/>
        </p:nvPicPr>
        <p:blipFill>
          <a:blip r:embed="rId4"/>
          <a:stretch/>
        </p:blipFill>
        <p:spPr>
          <a:xfrm>
            <a:off x="231840" y="3603600"/>
            <a:ext cx="29480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http://www.styleitaliano.org/uploaded_images/articles/11203/ea3da0d9.jpg"/>
          <p:cNvPicPr/>
          <p:nvPr/>
        </p:nvPicPr>
        <p:blipFill>
          <a:blip r:embed="rId5"/>
          <a:stretch/>
        </p:blipFill>
        <p:spPr>
          <a:xfrm>
            <a:off x="3322800" y="3603600"/>
            <a:ext cx="2873160" cy="197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http://www.styleitaliano.org/uploaded_images/articles/11203/b82667a0.jpg"/>
          <p:cNvPicPr/>
          <p:nvPr/>
        </p:nvPicPr>
        <p:blipFill>
          <a:blip r:embed="rId6"/>
          <a:stretch/>
        </p:blipFill>
        <p:spPr>
          <a:xfrm>
            <a:off x="6332400" y="3603600"/>
            <a:ext cx="2621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91" name="Picture 2" descr="http://www.styleitaliano.org/uploaded_images/articles/11203/dffc34f8.jpg"/>
          <p:cNvPicPr/>
          <p:nvPr/>
        </p:nvPicPr>
        <p:blipFill>
          <a:blip r:embed="rId1"/>
          <a:stretch/>
        </p:blipFill>
        <p:spPr>
          <a:xfrm>
            <a:off x="231840" y="1438200"/>
            <a:ext cx="2935080" cy="197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www.styleitaliano.org/uploaded_images/articles/11203/c48673ce.jpg"/>
          <p:cNvPicPr/>
          <p:nvPr/>
        </p:nvPicPr>
        <p:blipFill>
          <a:blip r:embed="rId2"/>
          <a:stretch/>
        </p:blipFill>
        <p:spPr>
          <a:xfrm>
            <a:off x="3300480" y="1438200"/>
            <a:ext cx="2859120" cy="1974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http://www.styleitaliano.org/uploaded_images/articles/11203/e7330b8e.jpg"/>
          <p:cNvPicPr/>
          <p:nvPr/>
        </p:nvPicPr>
        <p:blipFill>
          <a:blip r:embed="rId3"/>
          <a:stretch/>
        </p:blipFill>
        <p:spPr>
          <a:xfrm>
            <a:off x="6265800" y="1452600"/>
            <a:ext cx="2687760" cy="1965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ttp://www.styleitaliano.org/uploaded_images/articles/11203/e051cce6.jpg"/>
          <p:cNvPicPr/>
          <p:nvPr/>
        </p:nvPicPr>
        <p:blipFill>
          <a:blip r:embed="rId4"/>
          <a:stretch/>
        </p:blipFill>
        <p:spPr>
          <a:xfrm>
            <a:off x="231840" y="3562200"/>
            <a:ext cx="3610080" cy="2406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http://www.styleitaliano.org/uploaded_images/articles/11203/a6d9bbfa.jpg"/>
          <p:cNvPicPr/>
          <p:nvPr/>
        </p:nvPicPr>
        <p:blipFill>
          <a:blip r:embed="rId5"/>
          <a:stretch/>
        </p:blipFill>
        <p:spPr>
          <a:xfrm>
            <a:off x="4081320" y="3562200"/>
            <a:ext cx="487224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ЛОКАЛИЗ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КАВИТЕТА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проксималне површине предњих зуба с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ећењем инцизалног уг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 настати 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о последица каријесног процеса или механичког оштеће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DelovanjeSila01"/>
          <p:cNvPicPr/>
          <p:nvPr/>
        </p:nvPicPr>
        <p:blipFill>
          <a:blip r:embed="rId1"/>
          <a:stretch/>
        </p:blipFill>
        <p:spPr>
          <a:xfrm>
            <a:off x="4913280" y="4229280"/>
            <a:ext cx="4032360" cy="2381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Rezultat slika za tooth clas iv cavity"/>
          <p:cNvPicPr/>
          <p:nvPr/>
        </p:nvPicPr>
        <p:blipFill>
          <a:blip r:embed="rId2"/>
          <a:stretch/>
        </p:blipFill>
        <p:spPr>
          <a:xfrm>
            <a:off x="322200" y="4440240"/>
            <a:ext cx="4486320" cy="2170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ocketdentistry.com/wp-content/uploads/285/img0367.jpg"/>
          <p:cNvPicPr/>
          <p:nvPr/>
        </p:nvPicPr>
        <p:blipFill>
          <a:blip r:embed="rId3"/>
          <a:stretch/>
        </p:blipFill>
        <p:spPr>
          <a:xfrm>
            <a:off x="4913280" y="1762200"/>
            <a:ext cx="401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ЛОКАЛИЗ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зијални инцизални уга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кутића чешће подлеже оштећењу него дист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бог анатомо-морфолошког облика секутића, јер мезијални инцизални угао има каракте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рог угл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дистални је заобљен и заклапа туп уг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cetvrtaKlasa02"/>
          <p:cNvPicPr/>
          <p:nvPr/>
        </p:nvPicPr>
        <p:blipFill>
          <a:blip r:embed="rId1"/>
          <a:stretch/>
        </p:blipFill>
        <p:spPr>
          <a:xfrm>
            <a:off x="5508720" y="1700280"/>
            <a:ext cx="3267000" cy="230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cetvrtaKlasaNovi"/>
          <p:cNvPicPr/>
          <p:nvPr/>
        </p:nvPicPr>
        <p:blipFill>
          <a:blip r:embed="rId2"/>
          <a:stretch/>
        </p:blipFill>
        <p:spPr>
          <a:xfrm>
            <a:off x="5508720" y="4240080"/>
            <a:ext cx="3267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1840" y="1466640"/>
            <a:ext cx="6140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чине оштећ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г промера зу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лизине пул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грижаја пациј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Rezultat slika za incisal filling retention"/>
          <p:cNvPicPr/>
          <p:nvPr/>
        </p:nvPicPr>
        <p:blipFill>
          <a:blip r:embed="rId1"/>
          <a:stretch/>
        </p:blipFill>
        <p:spPr>
          <a:xfrm>
            <a:off x="5884920" y="1246320"/>
            <a:ext cx="2584440" cy="26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5"/>
          <p:cNvPicPr/>
          <p:nvPr/>
        </p:nvPicPr>
        <p:blipFill>
          <a:blip r:embed="rId2"/>
          <a:stretch/>
        </p:blipFill>
        <p:spPr>
          <a:xfrm>
            <a:off x="4454640" y="4124160"/>
            <a:ext cx="4014720" cy="25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Rezultat slika za incisal bite"/>
          <p:cNvPicPr/>
          <p:nvPr/>
        </p:nvPicPr>
        <p:blipFill>
          <a:blip r:embed="rId3"/>
          <a:stretch/>
        </p:blipFill>
        <p:spPr>
          <a:xfrm>
            <a:off x="210960" y="4262400"/>
            <a:ext cx="4029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1840" y="1466640"/>
            <a:ext cx="56689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е т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ћине предњих зуба у току жвакања изложене су дејству сила које су неповољне за стабилност испуна и теже да га истисну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м и апроксималном сме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Before"/>
          <p:cNvPicPr/>
          <p:nvPr/>
        </p:nvPicPr>
        <p:blipFill>
          <a:blip r:embed="rId1"/>
          <a:stretch/>
        </p:blipFill>
        <p:spPr>
          <a:xfrm>
            <a:off x="576360" y="4316400"/>
            <a:ext cx="3525840" cy="211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image"/>
          <p:cNvPicPr/>
          <p:nvPr/>
        </p:nvPicPr>
        <p:blipFill>
          <a:blip r:embed="rId2"/>
          <a:stretch/>
        </p:blipFill>
        <p:spPr>
          <a:xfrm>
            <a:off x="6454800" y="2936880"/>
            <a:ext cx="2306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2200" y="1466640"/>
            <a:ext cx="50911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а ивица доњих секутића при жвакању врши притисак на палатиналну површину горњих секут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и је правац продужетак уздужне осовине доњих секутића разлаже се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ja је усмерена аксијално у односу на горње секутиће и 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егативну сил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правну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у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ја делује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Ако испун нема ретенцију помера га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5770440" y="1649520"/>
            <a:ext cx="316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 сечењу хране доњи секутићи инцизалном ивицом притискају инцизалну ивицу горњих секут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ја оптерећује инцизални руб испуна разлаже се 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гативну силу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о притиска преноси се на базу А1-В1 гингивног зида негативне силе теже да изврну испун око тачке А1 која нема базу у гингивном зиду делују као полуга изазивајући одвајање исп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2446200" y="3936960"/>
            <a:ext cx="41688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ОБЛИК КАВИТЕТ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клузије и арти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ца и интензитета деловања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лумена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а з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строшености зуба -абр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D14 copy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7-08-25T16:42:30Z</dcterms:modified>
  <cp:revision>510</cp:revision>
  <dc:subject/>
  <dc:title>Каријес зуба</dc:title>
</cp:coreProperties>
</file>