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9.jpeg" ContentType="image/jpeg"/>
  <Override PartName="/ppt/media/image36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35.jpeg" ContentType="image/jpeg"/>
  <Override PartName="/ppt/media/image1.jpeg" ContentType="image/jpeg"/>
  <Override PartName="/ppt/media/image41.jpeg" ContentType="image/jpeg"/>
  <Override PartName="/ppt/media/image1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756A-DF60-4679-8EF2-A66C846F9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E486-0861-4232-8F91-B24570A0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3941-3E92-465D-B0C6-14CE68D55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6D7E-5FF4-4153-8163-1F87D91F2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F90D-10FD-4CC0-94ED-145275E9C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EB35-6A79-4002-924F-F8FE6BB3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EF74-45DB-4E34-A575-36AC87B3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B6D4-5DC6-43AA-93C4-8A1719DE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DF5B-1FCA-4D55-9419-B696EEBA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0F34-4141-40DE-9366-C92F5285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8C9C-B20C-4F11-8782-5FCD250F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C914-2D4F-4994-9B22-53564333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1E12-9065-4B78-A48A-7AED4883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B285-B51D-4B32-A858-6990DBBE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AD2E-6E36-4454-932E-BC030A21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C6A8-5116-455E-90EE-C23E88839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BC16-CFEF-45BF-BC74-3C0885317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ACFA7-5710-4392-88AC-6487E8A14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28647-C500-4337-AF0B-9AEC3C05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A3A59-D39A-4600-9C2A-FA518CEE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B1800-D730-488D-84AD-49E2CE49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9EBD4-88EC-45AC-B192-0B879805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E3DB-F0B6-4E37-8068-2820CA16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846EB-1CFE-4650-83B0-E3643F13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D2959-0BD2-48C4-A3FE-5ADA470F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98811-318B-4A7D-AE24-F0FBCF2F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F8A57-1BF4-4F32-82B2-8022A40D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B40CF-C078-4B9D-A6FB-46E4309B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89EEF-704B-4860-ABEE-DA7EA397A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9061A-8708-40C2-AE5F-0F2E78662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1EAD2-7D5C-467E-A2ED-CD6725967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9FF43-BE35-461D-B365-BFDAC45F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1B353-1BAC-4727-A774-384F3B43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08C6-154C-453D-825E-3A3DE119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3DB0B-DFB8-42B4-9121-B6E717DF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2BFCA-419F-45A3-8978-E2F1CE12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A1653-CFE5-440E-9696-BAB2200A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F0B54-6A9E-41CE-BC8F-47F77120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FAD6E-1128-47FE-B61F-B3D38056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BDDC7-C0F9-4ED8-8E57-78D99BCD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F7958-9D09-4BEC-9B1E-E711F711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E026D-3CEE-4FAE-B320-593F5B84B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835A1-FD11-47B0-A523-ACEDCB305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E08E-B553-4B6A-9BA0-F0572E8E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C50D-0C23-483B-90B4-DD16C50E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D5F3-43FF-41D1-93C6-E139EE84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3DBB-5E10-4DCC-9CAF-19D0416C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2EFE-B3AE-401A-A384-289F983A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1e51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70D46B-7F13-4DDC-98EF-1EEFF4A6A79F}" type="slidenum">
              <a:rPr b="0" lang="en-US" sz="28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f7f7f7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f7f7f7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1e51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5F6B5C-6E79-497E-8D54-E6F0EAE89C0B}" type="slidenum">
              <a:rPr b="0" lang="en-US" sz="28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f7f7f7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Straight Connector 13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f7f7f7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1e51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AA2453-8EC1-4072-8ACA-79500CBF4FAE}" type="slidenum">
              <a:rPr b="0" lang="en-US" sz="28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Straight Connector 12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f7f7f7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Straight Connector 13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f7f7f7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1e51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A7EC9C-5215-4D13-9AE8-98641F022087}" type="slidenum">
              <a:rPr b="0" lang="en-US" sz="28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66520" y="1447560"/>
            <a:ext cx="7305480" cy="33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1" lang="en-US" sz="4000" spc="-1" strike="noStrike">
                <a:solidFill>
                  <a:srgbClr val="1e5155"/>
                </a:solidFill>
                <a:latin typeface="Calibri"/>
              </a:rPr>
              <a:t>КАВИТЕТА I</a:t>
            </a:r>
            <a:r>
              <a:rPr b="1" lang="sr-Latn-RS" sz="4000" spc="-1" strike="noStrike">
                <a:solidFill>
                  <a:srgbClr val="1e5155"/>
                </a:solidFill>
                <a:latin typeface="Calibri"/>
              </a:rPr>
              <a:t>V</a:t>
            </a:r>
            <a:r>
              <a:rPr b="1" lang="en-US" sz="4000" spc="-1" strike="noStrike">
                <a:solidFill>
                  <a:srgbClr val="1e5155"/>
                </a:solidFill>
                <a:latin typeface="Calibri"/>
              </a:rPr>
              <a:t> КЛАСЕ</a:t>
            </a:r>
            <a:endParaRPr b="0" lang="en-US" sz="40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866880" y="4776840"/>
            <a:ext cx="661968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5828"/>
                </a:solidFill>
                <a:latin typeface="Calibri"/>
              </a:rPr>
              <a:t>ПРЕПАРАЦИЈА КАВИТЕТА IV КЛАСЕ.</a:t>
            </a:r>
            <a:r>
              <a:rPr b="0" lang="sr-Latn-RS" sz="1900" spc="-1" strike="noStrike">
                <a:solidFill>
                  <a:srgbClr val="005828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5828"/>
                </a:solidFill>
                <a:latin typeface="Calibri"/>
              </a:rPr>
              <a:t>ВАРИЈАНТЕ КАВИТЕТА IV КЛАСЕ: СА ГИНГИВАСЛНИМ</a:t>
            </a:r>
            <a:r>
              <a:rPr b="0" lang="sr-Latn-RS" sz="1900" spc="-1" strike="noStrike">
                <a:solidFill>
                  <a:srgbClr val="005828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5828"/>
                </a:solidFill>
                <a:latin typeface="Calibri"/>
              </a:rPr>
              <a:t>СТЕПЕНИКОМ, СА ИНЦИЗАЛНИМ СТРЕПЕНИКОМ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РЕТЕНЦИЈА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64" name="Content Placeholder 2"/>
          <p:cNvSpPr/>
          <p:nvPr/>
        </p:nvSpPr>
        <p:spPr>
          <a:xfrm>
            <a:off x="484200" y="1467000"/>
            <a:ext cx="658656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макромеханичка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Ластин реп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етенциони жљебови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етенционе тачк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арапулпни кочићи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анални кочићи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Content Placeholder 3"/>
          <p:cNvSpPr/>
          <p:nvPr/>
        </p:nvSpPr>
        <p:spPr>
          <a:xfrm>
            <a:off x="484200" y="4819680"/>
            <a:ext cx="5302080" cy="18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микромеханичк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7% фосфорна кис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елин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66" name="Picture 2" descr="http://pocketdentistry.com/wp-content/uploads/285/img0357.jpg"/>
          <p:cNvPicPr/>
          <p:nvPr/>
        </p:nvPicPr>
        <p:blipFill>
          <a:blip r:embed="rId1"/>
          <a:stretch/>
        </p:blipFill>
        <p:spPr>
          <a:xfrm>
            <a:off x="6781680" y="1467000"/>
            <a:ext cx="1935360" cy="22366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sakiselinom"/>
          <p:cNvPicPr/>
          <p:nvPr/>
        </p:nvPicPr>
        <p:blipFill>
          <a:blip r:embed="rId2"/>
          <a:stretch/>
        </p:blipFill>
        <p:spPr>
          <a:xfrm>
            <a:off x="4741920" y="3922560"/>
            <a:ext cx="426564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ЛАСТИН РЕП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69" name="Content Placeholder 2"/>
          <p:cNvSpPr/>
          <p:nvPr/>
        </p:nvSpPr>
        <p:spPr>
          <a:xfrm>
            <a:off x="484200" y="1467000"/>
            <a:ext cx="609444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Ластин реп треба да се налази у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средњој тећини инцизо- гингивног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промера крунице зуба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јер не угрожава инцизалну ивицуу нити пулпу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мезио-дисталном правцу код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већих зуба до медијалне линије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а код мањих прелзи м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дијалну линију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Одупире се мазио-дисталним и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естибуло-оралним силама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Зидови су: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пулпни, инцизални, гингивални, апроксимални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Биолошки облик кавитета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70" name="Picture 1" descr=""/>
          <p:cNvPicPr/>
          <p:nvPr/>
        </p:nvPicPr>
        <p:blipFill>
          <a:blip r:embed="rId1"/>
          <a:stretch/>
        </p:blipFill>
        <p:spPr>
          <a:xfrm>
            <a:off x="6754680" y="1165320"/>
            <a:ext cx="2279880" cy="30970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"/>
          <p:cNvPicPr/>
          <p:nvPr/>
        </p:nvPicPr>
        <p:blipFill>
          <a:blip r:embed="rId2"/>
          <a:stretch/>
        </p:blipFill>
        <p:spPr>
          <a:xfrm>
            <a:off x="6578640" y="4262400"/>
            <a:ext cx="236700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МАКРОМАХЕНИЧКА РЕТЕНЦИЈА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pic>
        <p:nvPicPr>
          <p:cNvPr id="273" name="Picture 1" descr=""/>
          <p:cNvPicPr/>
          <p:nvPr/>
        </p:nvPicPr>
        <p:blipFill>
          <a:blip r:embed="rId1"/>
          <a:stretch/>
        </p:blipFill>
        <p:spPr>
          <a:xfrm>
            <a:off x="4930920" y="1467000"/>
            <a:ext cx="2609640" cy="29811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sD11 copy"/>
          <p:cNvPicPr/>
          <p:nvPr/>
        </p:nvPicPr>
        <p:blipFill>
          <a:blip r:embed="rId2"/>
          <a:stretch/>
        </p:blipFill>
        <p:spPr>
          <a:xfrm>
            <a:off x="3268800" y="4448160"/>
            <a:ext cx="2971800" cy="22305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"/>
          <p:cNvPicPr/>
          <p:nvPr/>
        </p:nvPicPr>
        <p:blipFill>
          <a:blip r:embed="rId3"/>
          <a:stretch/>
        </p:blipFill>
        <p:spPr>
          <a:xfrm>
            <a:off x="1717560" y="1467000"/>
            <a:ext cx="257976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sD5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МАКРОМАХЕНИЧКА РЕТЕНЦИЈА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pic>
        <p:nvPicPr>
          <p:cNvPr id="278" name="Picture 4" descr="4Kl02"/>
          <p:cNvPicPr/>
          <p:nvPr/>
        </p:nvPicPr>
        <p:blipFill>
          <a:blip r:embed="rId1"/>
          <a:stretch/>
        </p:blipFill>
        <p:spPr>
          <a:xfrm>
            <a:off x="5610240" y="1725480"/>
            <a:ext cx="2865600" cy="37465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" descr=""/>
          <p:cNvPicPr/>
          <p:nvPr/>
        </p:nvPicPr>
        <p:blipFill>
          <a:blip r:embed="rId2"/>
          <a:stretch/>
        </p:blipFill>
        <p:spPr>
          <a:xfrm>
            <a:off x="731880" y="1779480"/>
            <a:ext cx="401472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МАКРОМАХЕНИЧКА РЕТЕНЦИЈА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pic>
        <p:nvPicPr>
          <p:cNvPr id="281" name="Picture 2" descr="Rezultat slika za incisor fracture frc post"/>
          <p:cNvPicPr/>
          <p:nvPr/>
        </p:nvPicPr>
        <p:blipFill>
          <a:blip r:embed="rId1"/>
          <a:stretch/>
        </p:blipFill>
        <p:spPr>
          <a:xfrm>
            <a:off x="2584440" y="1305000"/>
            <a:ext cx="3600360" cy="2647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58680" y="4127400"/>
            <a:ext cx="88902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pic>
        <p:nvPicPr>
          <p:cNvPr id="284" name="Picture 2" descr="http://www.styleitaliano.org/uploaded_images/articles/11203/b65b4af0.jpg"/>
          <p:cNvPicPr/>
          <p:nvPr/>
        </p:nvPicPr>
        <p:blipFill>
          <a:blip r:embed="rId1"/>
          <a:stretch/>
        </p:blipFill>
        <p:spPr>
          <a:xfrm>
            <a:off x="231840" y="1419120"/>
            <a:ext cx="2948040" cy="19656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http://www.styleitaliano.org/uploaded_images/articles/11203/f257dbf4.jpg"/>
          <p:cNvPicPr/>
          <p:nvPr/>
        </p:nvPicPr>
        <p:blipFill>
          <a:blip r:embed="rId2"/>
          <a:stretch/>
        </p:blipFill>
        <p:spPr>
          <a:xfrm>
            <a:off x="3322800" y="1419120"/>
            <a:ext cx="2887560" cy="19702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http://www.styleitaliano.org/uploaded_images/articles/11203/baa7c43f.jpg"/>
          <p:cNvPicPr/>
          <p:nvPr/>
        </p:nvPicPr>
        <p:blipFill>
          <a:blip r:embed="rId3"/>
          <a:stretch/>
        </p:blipFill>
        <p:spPr>
          <a:xfrm>
            <a:off x="6332400" y="1419120"/>
            <a:ext cx="2660760" cy="1965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8" descr="http://www.styleitaliano.org/uploaded_images/articles/11203/adfe31db.jpg"/>
          <p:cNvPicPr/>
          <p:nvPr/>
        </p:nvPicPr>
        <p:blipFill>
          <a:blip r:embed="rId4"/>
          <a:stretch/>
        </p:blipFill>
        <p:spPr>
          <a:xfrm>
            <a:off x="231840" y="3603600"/>
            <a:ext cx="2948040" cy="19652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0" descr="http://www.styleitaliano.org/uploaded_images/articles/11203/ea3da0d9.jpg"/>
          <p:cNvPicPr/>
          <p:nvPr/>
        </p:nvPicPr>
        <p:blipFill>
          <a:blip r:embed="rId5"/>
          <a:stretch/>
        </p:blipFill>
        <p:spPr>
          <a:xfrm>
            <a:off x="3322800" y="3603600"/>
            <a:ext cx="2873160" cy="19702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2" descr="http://www.styleitaliano.org/uploaded_images/articles/11203/b82667a0.jpg"/>
          <p:cNvPicPr/>
          <p:nvPr/>
        </p:nvPicPr>
        <p:blipFill>
          <a:blip r:embed="rId6"/>
          <a:stretch/>
        </p:blipFill>
        <p:spPr>
          <a:xfrm>
            <a:off x="6332400" y="3603600"/>
            <a:ext cx="262116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pic>
        <p:nvPicPr>
          <p:cNvPr id="291" name="Picture 2" descr="http://www.styleitaliano.org/uploaded_images/articles/11203/dffc34f8.jpg"/>
          <p:cNvPicPr/>
          <p:nvPr/>
        </p:nvPicPr>
        <p:blipFill>
          <a:blip r:embed="rId1"/>
          <a:stretch/>
        </p:blipFill>
        <p:spPr>
          <a:xfrm>
            <a:off x="231840" y="1438200"/>
            <a:ext cx="2935080" cy="19749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http://www.styleitaliano.org/uploaded_images/articles/11203/c48673ce.jpg"/>
          <p:cNvPicPr/>
          <p:nvPr/>
        </p:nvPicPr>
        <p:blipFill>
          <a:blip r:embed="rId2"/>
          <a:stretch/>
        </p:blipFill>
        <p:spPr>
          <a:xfrm>
            <a:off x="3300480" y="1438200"/>
            <a:ext cx="2859120" cy="19749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http://www.styleitaliano.org/uploaded_images/articles/11203/e7330b8e.jpg"/>
          <p:cNvPicPr/>
          <p:nvPr/>
        </p:nvPicPr>
        <p:blipFill>
          <a:blip r:embed="rId3"/>
          <a:stretch/>
        </p:blipFill>
        <p:spPr>
          <a:xfrm>
            <a:off x="6265800" y="1452600"/>
            <a:ext cx="2687760" cy="19652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http://www.styleitaliano.org/uploaded_images/articles/11203/e051cce6.jpg"/>
          <p:cNvPicPr/>
          <p:nvPr/>
        </p:nvPicPr>
        <p:blipFill>
          <a:blip r:embed="rId4"/>
          <a:stretch/>
        </p:blipFill>
        <p:spPr>
          <a:xfrm>
            <a:off x="231840" y="3562200"/>
            <a:ext cx="3610080" cy="2406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0" descr="http://www.styleitaliano.org/uploaded_images/articles/11203/a6d9bbfa.jpg"/>
          <p:cNvPicPr/>
          <p:nvPr/>
        </p:nvPicPr>
        <p:blipFill>
          <a:blip r:embed="rId5"/>
          <a:stretch/>
        </p:blipFill>
        <p:spPr>
          <a:xfrm>
            <a:off x="4081320" y="3562200"/>
            <a:ext cx="4872240" cy="24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ХВАЛА НА ПАЖЊ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ЛОКАЛИЗ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КАВИТЕТА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21840" y="1466640"/>
            <a:ext cx="493884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проксималне површине предњих зуба са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штећењем инцизалног уг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огу настати 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о последица каријесног процеса или механичког оштећења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5" descr="DelovanjeSila01"/>
          <p:cNvPicPr/>
          <p:nvPr/>
        </p:nvPicPr>
        <p:blipFill>
          <a:blip r:embed="rId1"/>
          <a:stretch/>
        </p:blipFill>
        <p:spPr>
          <a:xfrm>
            <a:off x="4913280" y="4229280"/>
            <a:ext cx="4032360" cy="23810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Rezultat slika za tooth clas iv cavity"/>
          <p:cNvPicPr/>
          <p:nvPr/>
        </p:nvPicPr>
        <p:blipFill>
          <a:blip r:embed="rId2"/>
          <a:stretch/>
        </p:blipFill>
        <p:spPr>
          <a:xfrm>
            <a:off x="322200" y="4440240"/>
            <a:ext cx="4486320" cy="2170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http://pocketdentistry.com/wp-content/uploads/285/img0367.jpg"/>
          <p:cNvPicPr/>
          <p:nvPr/>
        </p:nvPicPr>
        <p:blipFill>
          <a:blip r:embed="rId3"/>
          <a:stretch/>
        </p:blipFill>
        <p:spPr>
          <a:xfrm>
            <a:off x="4913280" y="1762200"/>
            <a:ext cx="40179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ЛОКАЛИЗ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1840" y="1466640"/>
            <a:ext cx="493884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Мезијални инцизални уга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екутића чешће подлеже оштећењу него дистал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Због анатомо-морфолошког облика секутића, јер мезијални инцизални угао има карактер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штрог угла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 дистални је заобљен и заклапа туп уг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12" descr="cetvrtaKlasa02"/>
          <p:cNvPicPr/>
          <p:nvPr/>
        </p:nvPicPr>
        <p:blipFill>
          <a:blip r:embed="rId1"/>
          <a:stretch/>
        </p:blipFill>
        <p:spPr>
          <a:xfrm>
            <a:off x="5508720" y="1700280"/>
            <a:ext cx="3267000" cy="23065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3" descr="cetvrtaKlasaNovi"/>
          <p:cNvPicPr/>
          <p:nvPr/>
        </p:nvPicPr>
        <p:blipFill>
          <a:blip r:embed="rId2"/>
          <a:stretch/>
        </p:blipFill>
        <p:spPr>
          <a:xfrm>
            <a:off x="5508720" y="4240080"/>
            <a:ext cx="326700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РЕТЕНЦИЈА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21840" y="1466640"/>
            <a:ext cx="614052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еличине оштеће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естибуло-оралног промера зуб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Близине пулп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Загрижаја пацијен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2" descr="Rezultat slika za incisal filling retention"/>
          <p:cNvPicPr/>
          <p:nvPr/>
        </p:nvPicPr>
        <p:blipFill>
          <a:blip r:embed="rId1"/>
          <a:stretch/>
        </p:blipFill>
        <p:spPr>
          <a:xfrm>
            <a:off x="5884920" y="1246320"/>
            <a:ext cx="2584440" cy="2657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25"/>
          <p:cNvPicPr/>
          <p:nvPr/>
        </p:nvPicPr>
        <p:blipFill>
          <a:blip r:embed="rId2"/>
          <a:stretch/>
        </p:blipFill>
        <p:spPr>
          <a:xfrm>
            <a:off x="4454640" y="4124160"/>
            <a:ext cx="4014720" cy="2529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Rezultat slika za incisal bite"/>
          <p:cNvPicPr/>
          <p:nvPr/>
        </p:nvPicPr>
        <p:blipFill>
          <a:blip r:embed="rId3"/>
          <a:stretch/>
        </p:blipFill>
        <p:spPr>
          <a:xfrm>
            <a:off x="210960" y="4262400"/>
            <a:ext cx="40291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РЕТЕНЦИЈА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1840" y="1466640"/>
            <a:ext cx="566892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нцизалне тр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ћине предњих зуба у току жвакања изложене су дејству сила које су неповољне за стабилност испуна и теже да га истисну у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естибуло-оралном и апроксималном смер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2" descr="Before"/>
          <p:cNvPicPr/>
          <p:nvPr/>
        </p:nvPicPr>
        <p:blipFill>
          <a:blip r:embed="rId1"/>
          <a:stretch/>
        </p:blipFill>
        <p:spPr>
          <a:xfrm>
            <a:off x="576360" y="4316400"/>
            <a:ext cx="3525840" cy="2116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image"/>
          <p:cNvPicPr/>
          <p:nvPr/>
        </p:nvPicPr>
        <p:blipFill>
          <a:blip r:embed="rId2"/>
          <a:stretch/>
        </p:blipFill>
        <p:spPr>
          <a:xfrm>
            <a:off x="6454800" y="2936880"/>
            <a:ext cx="230652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РЕТЕНЦИЈА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22200" y="1466640"/>
            <a:ext cx="509112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нцизална ивица доњих секутића при жвакању врши притисак на палатиналну површину горњих секутић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ила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чији је правац продужетак уздужне осовине доњих секутића разлаже се на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озитивну силу 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oja је усмерена аксијално у односу на горње секутиће и н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негативну силу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управну на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илу 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која делује вестибулар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Ако испун нема ретенцију помера га вестибулар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Picture 1" descr=""/>
          <p:cNvPicPr/>
          <p:nvPr/>
        </p:nvPicPr>
        <p:blipFill>
          <a:blip r:embed="rId1"/>
          <a:stretch/>
        </p:blipFill>
        <p:spPr>
          <a:xfrm>
            <a:off x="5770440" y="1649520"/>
            <a:ext cx="316080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РЕТЕНЦИЈА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21840" y="1466640"/>
            <a:ext cx="853452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ри сечењу хране доњи секутићи инцизалном ивицом притискају инцизалну ивицу горњих секутић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Сила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оја оптерећује инцизални руб испуна разлаже се на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позитивну силу 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негативну силу 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Део притиска преноси се на базу А1-В1 гингивног зида негативне силе теже да изврну испун око тачке А1 која нема базу у гингивном зиду делују као полуга изазивајући одвајање испу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1" descr=""/>
          <p:cNvPicPr/>
          <p:nvPr/>
        </p:nvPicPr>
        <p:blipFill>
          <a:blip r:embed="rId1"/>
          <a:stretch/>
        </p:blipFill>
        <p:spPr>
          <a:xfrm>
            <a:off x="2446200" y="3936960"/>
            <a:ext cx="416880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ОБЛИК КАВИТЕТА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21840" y="1466640"/>
            <a:ext cx="853452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Оклузије и артикула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равца и интензитета деловања си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олумена пулп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Облика зу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Истрошености зуба -абраз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sD14 copy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7T11:23:28Z</dcterms:created>
  <dc:creator>Miloš Papić</dc:creator>
  <dc:description/>
  <dc:language>en-US</dc:language>
  <cp:lastModifiedBy>Miloš Papić</cp:lastModifiedBy>
  <dcterms:modified xsi:type="dcterms:W3CDTF">2017-08-25T16:42:30Z</dcterms:modified>
  <cp:revision>510</cp:revision>
  <dc:subject/>
  <dc:title>Каријес зуба</dc:title>
</cp:coreProperties>
</file>