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9.jpeg" ContentType="image/jpeg"/>
  <Override PartName="/ppt/media/image36.jpeg" ContentType="image/jpeg"/>
  <Override PartName="/ppt/media/image30.png" ContentType="image/png"/>
  <Override PartName="/ppt/media/image37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34.jpeg" ContentType="image/jpeg"/>
  <Override PartName="/ppt/media/image38.jpeg" ContentType="image/jpeg"/>
  <Override PartName="/ppt/media/image28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40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35.jpeg" ContentType="image/jpeg"/>
  <Override PartName="/ppt/media/image1.jpeg" ContentType="image/jpeg"/>
  <Override PartName="/ppt/media/image41.jpeg" ContentType="image/jpeg"/>
  <Override PartName="/ppt/media/image1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9A9C-DED1-4929-AAA5-DBDA9EE30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6B2B-7793-4331-9AF0-F7609B13E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390C-E3DD-46F8-B679-D5A3C2B74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8A2F-F4E2-421D-BD76-B21B4EE69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47D7C-EF5D-4D36-A956-8DE110DBD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752BE-4ACD-41C6-90E7-F4388636C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780B5-D9F9-496F-B69D-1CFA0E03C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00DB3-E04A-43CA-B358-1FAD7AF92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62981-0DE4-4198-AA98-8F19B11A5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102BA-5FDD-459F-8756-8AB9E17C8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77F9A-BC70-48EF-A583-2C18078E6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62D5-719A-4A6F-BEE8-2A96B8CFD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8E0A8-84FC-4748-8BCB-4A2CA7EBB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31259-363D-43A2-B6C2-CF672443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401FF-4A84-4E8B-A443-796DD4D89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9EBD2-85A1-466B-BA9E-B206CA071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97435-5212-4B89-A479-BDF3FA1D0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2F638-43E9-4B87-9537-A3B7C1E95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9272C-D32E-444F-A294-1C067AD75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A9266-F0C9-4CD4-BE78-1ACA76BA6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8B530-A3A3-4862-85E9-C010D14C8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E08A3-9548-4221-BF93-B22D4594C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1B04-AAA8-400E-87EA-878A24762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CAB81-6343-4ABC-B76A-D7CA54132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3D1CE-71C9-4ADA-908A-D8D870FC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92A53-341B-488E-841F-C64139118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6034A-8DA7-4A1A-ADE1-E0D2CD97C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6CD27-3E58-4A77-BB15-2D28061DA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7D852-5087-4AEC-96B8-F527B34DB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A7BDE-D062-4DBE-9096-1A20B532D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D413A-B8AE-4C97-AFFB-55DEA83C7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BA31B-66B4-475F-9DF5-43E48E144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88915-A2ED-4619-9059-309626D16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07A1-9A4A-48F1-B704-4319ED84E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516CB-6AE5-4256-9401-7586DCFD2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FAD40-52DC-409A-B81B-01D7167F8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1702A-83AE-49C2-871A-6958B224E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0586F-96A0-442B-A3DF-83CC7852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9440B-EE09-4FBB-B484-C1BD8A72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B4F73-995D-4E70-9227-FF58BE8C5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3B6FD-DC44-4249-B60B-E9435383D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84BA7-59A6-4C81-95C0-1FC37B23D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EBB5C-47A3-4180-A325-2020B1252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D7B1-CF86-4357-8356-0F470566C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F070-F945-4AE1-A846-DDE837108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AF92-4F20-49E0-991B-5EBE8B403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E74E-4459-4B5A-A59B-9ADACEEC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F756-EA05-4A83-ACF5-4E8C6BBD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4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7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0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2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3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5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00b050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1e5155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dt" idx="1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ftr" idx="2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sldNum" idx="3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A8F6F6-7869-4F28-8C4A-CE06BE0F1E63}" type="slidenum">
              <a:rPr b="0" lang="en-US" sz="28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58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0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61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3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64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6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67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9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70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2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00b050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TextBox 12"/>
          <p:cNvSpPr/>
          <p:nvPr/>
        </p:nvSpPr>
        <p:spPr>
          <a:xfrm>
            <a:off x="674640" y="971640"/>
            <a:ext cx="6001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200" spc="-1" strike="noStrike">
                <a:solidFill>
                  <a:srgbClr val="f7f7f7"/>
                </a:solidFill>
                <a:latin typeface="Arial"/>
              </a:rPr>
              <a:t>“</a:t>
            </a:r>
            <a:endParaRPr b="0" lang="en-US" sz="1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TextBox 13"/>
          <p:cNvSpPr/>
          <p:nvPr/>
        </p:nvSpPr>
        <p:spPr>
          <a:xfrm>
            <a:off x="6999120" y="2612880"/>
            <a:ext cx="6019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200" spc="-1" strike="noStrike">
                <a:solidFill>
                  <a:srgbClr val="f7f7f7"/>
                </a:solidFill>
                <a:latin typeface="Arial"/>
              </a:rPr>
              <a:t>”</a:t>
            </a:r>
            <a:endParaRPr b="0" lang="en-US" sz="1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1e5155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8A17E0-528B-4457-BABE-FF5A4F9980C5}" type="slidenum">
              <a:rPr b="0" lang="en-US" sz="28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17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9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120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22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123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25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26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28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29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31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00b050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Straight Connector 12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f7f7f7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" name="Straight Connector 13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f7f7f7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1e5155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7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8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9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11F8E2-B22B-4FA0-8C46-FF446EB133EE}" type="slidenum">
              <a:rPr b="0" lang="en-US" sz="28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76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78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179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81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182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84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85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87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88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90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00b050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1" name="Straight Connector 12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f7f7f7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2" name="Straight Connector 13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f7f7f7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1e5155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930761-5D32-4F43-A7ED-F5C821356598}" type="slidenum">
              <a:rPr b="0" lang="en-US" sz="28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66520" y="1447560"/>
            <a:ext cx="7305480" cy="332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1e5155"/>
                </a:solidFill>
                <a:latin typeface="Calibri"/>
              </a:rPr>
              <a:t>ПРЕПАРАЦИЈА </a:t>
            </a:r>
            <a:r>
              <a:rPr b="1" lang="en-US" sz="4000" spc="-1" strike="noStrike">
                <a:solidFill>
                  <a:srgbClr val="1e5155"/>
                </a:solidFill>
                <a:latin typeface="Calibri"/>
              </a:rPr>
              <a:t>КАВИТЕТА I</a:t>
            </a:r>
            <a:r>
              <a:rPr b="1" lang="sr-Latn-RS" sz="4000" spc="-1" strike="noStrike">
                <a:solidFill>
                  <a:srgbClr val="1e5155"/>
                </a:solidFill>
                <a:latin typeface="Calibri"/>
              </a:rPr>
              <a:t>V</a:t>
            </a:r>
            <a:r>
              <a:rPr b="1" lang="en-US" sz="4000" spc="-1" strike="noStrike">
                <a:solidFill>
                  <a:srgbClr val="1e5155"/>
                </a:solidFill>
                <a:latin typeface="Calibri"/>
              </a:rPr>
              <a:t> КЛАСЕ</a:t>
            </a:r>
            <a:endParaRPr b="0" lang="en-US" sz="40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866880" y="4776840"/>
            <a:ext cx="6619680" cy="86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5828"/>
                </a:solidFill>
                <a:latin typeface="Calibri"/>
              </a:rPr>
              <a:t>ПРЕПАРАЦИЈА КАВИТЕТА IV КЛАСЕ.</a:t>
            </a:r>
            <a:r>
              <a:rPr b="0" lang="sr-Latn-RS" sz="1900" spc="-1" strike="noStrike">
                <a:solidFill>
                  <a:srgbClr val="005828"/>
                </a:solidFill>
                <a:latin typeface="Calibri"/>
              </a:rPr>
              <a:t> </a:t>
            </a:r>
            <a:r>
              <a:rPr b="0" lang="ru-RU" sz="1900" spc="-1" strike="noStrike">
                <a:solidFill>
                  <a:srgbClr val="005828"/>
                </a:solidFill>
                <a:latin typeface="Calibri"/>
              </a:rPr>
              <a:t>ВАРИЈАНТЕ КАВИТЕТА IV КЛАСЕ: СА ГИНГИВАСЛНИМ</a:t>
            </a:r>
            <a:r>
              <a:rPr b="0" lang="sr-Latn-RS" sz="1900" spc="-1" strike="noStrike">
                <a:solidFill>
                  <a:srgbClr val="005828"/>
                </a:solidFill>
                <a:latin typeface="Calibri"/>
              </a:rPr>
              <a:t> </a:t>
            </a:r>
            <a:r>
              <a:rPr b="0" lang="ru-RU" sz="1900" spc="-1" strike="noStrike">
                <a:solidFill>
                  <a:srgbClr val="005828"/>
                </a:solidFill>
                <a:latin typeface="Calibri"/>
              </a:rPr>
              <a:t>СТЕПЕНИКОМ, СА ИНЦИЗАЛНИМ СТРЕПЕНИКОМ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ПРЕПАРАЦИЈА КАВИТЕТА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 </a:t>
            </a:r>
            <a:r>
              <a:rPr b="0" lang="en-GB" sz="3600" spc="-1" strike="noStrike">
                <a:solidFill>
                  <a:srgbClr val="1e5155"/>
                </a:solidFill>
                <a:latin typeface="Calibri"/>
              </a:rPr>
              <a:t>IV 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КЛАСЕ</a:t>
            </a:r>
            <a:br>
              <a:rPr sz="3600"/>
            </a:br>
            <a:r>
              <a:rPr b="1" lang="sr-RS" sz="3600" spc="-1" strike="noStrike">
                <a:solidFill>
                  <a:srgbClr val="1e5155"/>
                </a:solidFill>
                <a:latin typeface="Calibri"/>
              </a:rPr>
              <a:t>РЕТЕНЦИЈА</a:t>
            </a: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64" name="Content Placeholder 2"/>
          <p:cNvSpPr/>
          <p:nvPr/>
        </p:nvSpPr>
        <p:spPr>
          <a:xfrm>
            <a:off x="484200" y="1467000"/>
            <a:ext cx="6586560" cy="46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макромеханичка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Ластин реп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Ретенциони жљебови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Ретенционе тачке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арапулпни кочићи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анални кочићи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5" name="Content Placeholder 3"/>
          <p:cNvSpPr/>
          <p:nvPr/>
        </p:nvSpPr>
        <p:spPr>
          <a:xfrm>
            <a:off x="484200" y="4819680"/>
            <a:ext cx="5302080" cy="18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микромеханичка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7% фосфорна кис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елина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66" name="Picture 2" descr="http://pocketdentistry.com/wp-content/uploads/285/img0357.jpg"/>
          <p:cNvPicPr/>
          <p:nvPr/>
        </p:nvPicPr>
        <p:blipFill>
          <a:blip r:embed="rId1"/>
          <a:stretch/>
        </p:blipFill>
        <p:spPr>
          <a:xfrm>
            <a:off x="6781680" y="1467000"/>
            <a:ext cx="1935360" cy="22366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" descr="sakiselinom"/>
          <p:cNvPicPr/>
          <p:nvPr/>
        </p:nvPicPr>
        <p:blipFill>
          <a:blip r:embed="rId2"/>
          <a:stretch/>
        </p:blipFill>
        <p:spPr>
          <a:xfrm>
            <a:off x="4741920" y="3922560"/>
            <a:ext cx="426564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ПРЕПАРАЦИЈА КАВИТЕТА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 </a:t>
            </a:r>
            <a:r>
              <a:rPr b="0" lang="en-GB" sz="3600" spc="-1" strike="noStrike">
                <a:solidFill>
                  <a:srgbClr val="1e5155"/>
                </a:solidFill>
                <a:latin typeface="Calibri"/>
              </a:rPr>
              <a:t>IV 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КЛАСЕ</a:t>
            </a:r>
            <a:br>
              <a:rPr sz="3600"/>
            </a:br>
            <a:r>
              <a:rPr b="1" lang="sr-RS" sz="3600" spc="-1" strike="noStrike">
                <a:solidFill>
                  <a:srgbClr val="1e5155"/>
                </a:solidFill>
                <a:latin typeface="Calibri"/>
              </a:rPr>
              <a:t>ЛАСТИН РЕП</a:t>
            </a: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69" name="Content Placeholder 2"/>
          <p:cNvSpPr/>
          <p:nvPr/>
        </p:nvSpPr>
        <p:spPr>
          <a:xfrm>
            <a:off x="484200" y="1467000"/>
            <a:ext cx="609444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Ластин реп треба да се налази у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средњој тећини инцизо- гингивног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промера крунице зуба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јер не угрожава инцизалну ивицуу нити пулпу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мезио-дисталном правцу код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већих зуба до медијалне линије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 а код мањих прелзи м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дијалну линију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Одупире се мазио-дисталним и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естибуло-оралним силама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Зидови су: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пулпни, инцизални, гингивални, апроксимални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Биолошки облик кавитета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70" name="Picture 1" descr=""/>
          <p:cNvPicPr/>
          <p:nvPr/>
        </p:nvPicPr>
        <p:blipFill>
          <a:blip r:embed="rId1"/>
          <a:stretch/>
        </p:blipFill>
        <p:spPr>
          <a:xfrm>
            <a:off x="6754680" y="1165320"/>
            <a:ext cx="2279880" cy="30970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2" descr=""/>
          <p:cNvPicPr/>
          <p:nvPr/>
        </p:nvPicPr>
        <p:blipFill>
          <a:blip r:embed="rId2"/>
          <a:stretch/>
        </p:blipFill>
        <p:spPr>
          <a:xfrm>
            <a:off x="6578640" y="4262400"/>
            <a:ext cx="2367000" cy="23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ПРЕПАРАЦИЈА КАВИТЕТА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 </a:t>
            </a:r>
            <a:r>
              <a:rPr b="0" lang="en-GB" sz="3600" spc="-1" strike="noStrike">
                <a:solidFill>
                  <a:srgbClr val="1e5155"/>
                </a:solidFill>
                <a:latin typeface="Calibri"/>
              </a:rPr>
              <a:t>IV 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КЛАСЕ</a:t>
            </a:r>
            <a:br>
              <a:rPr sz="3600"/>
            </a:br>
            <a:r>
              <a:rPr b="1" lang="sr-RS" sz="3600" spc="-1" strike="noStrike">
                <a:solidFill>
                  <a:srgbClr val="1e5155"/>
                </a:solidFill>
                <a:latin typeface="Calibri"/>
              </a:rPr>
              <a:t>МАКРОМАХЕНИЧКА РЕТЕНЦИЈА</a:t>
            </a: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pic>
        <p:nvPicPr>
          <p:cNvPr id="273" name="Picture 1" descr=""/>
          <p:cNvPicPr/>
          <p:nvPr/>
        </p:nvPicPr>
        <p:blipFill>
          <a:blip r:embed="rId1"/>
          <a:stretch/>
        </p:blipFill>
        <p:spPr>
          <a:xfrm>
            <a:off x="4930920" y="1467000"/>
            <a:ext cx="2609640" cy="29811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4" descr="sD11 copy"/>
          <p:cNvPicPr/>
          <p:nvPr/>
        </p:nvPicPr>
        <p:blipFill>
          <a:blip r:embed="rId2"/>
          <a:stretch/>
        </p:blipFill>
        <p:spPr>
          <a:xfrm>
            <a:off x="3268800" y="4448160"/>
            <a:ext cx="2971800" cy="22305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" descr=""/>
          <p:cNvPicPr/>
          <p:nvPr/>
        </p:nvPicPr>
        <p:blipFill>
          <a:blip r:embed="rId3"/>
          <a:stretch/>
        </p:blipFill>
        <p:spPr>
          <a:xfrm>
            <a:off x="1717560" y="1467000"/>
            <a:ext cx="257976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4" descr="sD5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ПРЕПАРАЦИЈА КАВИТЕТА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 </a:t>
            </a:r>
            <a:r>
              <a:rPr b="0" lang="en-GB" sz="3600" spc="-1" strike="noStrike">
                <a:solidFill>
                  <a:srgbClr val="1e5155"/>
                </a:solidFill>
                <a:latin typeface="Calibri"/>
              </a:rPr>
              <a:t>IV 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КЛАСЕ</a:t>
            </a:r>
            <a:br>
              <a:rPr sz="3600"/>
            </a:br>
            <a:r>
              <a:rPr b="1" lang="sr-RS" sz="3600" spc="-1" strike="noStrike">
                <a:solidFill>
                  <a:srgbClr val="1e5155"/>
                </a:solidFill>
                <a:latin typeface="Calibri"/>
              </a:rPr>
              <a:t>МАКРОМАХЕНИЧКА РЕТЕНЦИЈА</a:t>
            </a: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pic>
        <p:nvPicPr>
          <p:cNvPr id="278" name="Picture 4" descr="4Kl02"/>
          <p:cNvPicPr/>
          <p:nvPr/>
        </p:nvPicPr>
        <p:blipFill>
          <a:blip r:embed="rId1"/>
          <a:stretch/>
        </p:blipFill>
        <p:spPr>
          <a:xfrm>
            <a:off x="5610240" y="1725480"/>
            <a:ext cx="2865600" cy="37465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" descr=""/>
          <p:cNvPicPr/>
          <p:nvPr/>
        </p:nvPicPr>
        <p:blipFill>
          <a:blip r:embed="rId2"/>
          <a:stretch/>
        </p:blipFill>
        <p:spPr>
          <a:xfrm>
            <a:off x="731880" y="1779480"/>
            <a:ext cx="401472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ПРЕПАРАЦИЈА КАВИТЕТА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 </a:t>
            </a:r>
            <a:r>
              <a:rPr b="0" lang="en-GB" sz="3600" spc="-1" strike="noStrike">
                <a:solidFill>
                  <a:srgbClr val="1e5155"/>
                </a:solidFill>
                <a:latin typeface="Calibri"/>
              </a:rPr>
              <a:t>IV 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КЛАСЕ</a:t>
            </a:r>
            <a:br>
              <a:rPr sz="3600"/>
            </a:br>
            <a:r>
              <a:rPr b="1" lang="sr-RS" sz="3600" spc="-1" strike="noStrike">
                <a:solidFill>
                  <a:srgbClr val="1e5155"/>
                </a:solidFill>
                <a:latin typeface="Calibri"/>
              </a:rPr>
              <a:t>МАКРОМАХЕНИЧКА РЕТЕНЦИЈА</a:t>
            </a: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pic>
        <p:nvPicPr>
          <p:cNvPr id="281" name="Picture 2" descr="Rezultat slika za incisor fracture frc post"/>
          <p:cNvPicPr/>
          <p:nvPr/>
        </p:nvPicPr>
        <p:blipFill>
          <a:blip r:embed="rId1"/>
          <a:stretch/>
        </p:blipFill>
        <p:spPr>
          <a:xfrm>
            <a:off x="2584440" y="1305000"/>
            <a:ext cx="3600360" cy="26478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2" descr=""/>
          <p:cNvPicPr/>
          <p:nvPr/>
        </p:nvPicPr>
        <p:blipFill>
          <a:blip r:embed="rId2"/>
          <a:stretch/>
        </p:blipFill>
        <p:spPr>
          <a:xfrm>
            <a:off x="58680" y="4127400"/>
            <a:ext cx="889020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ПРЕПАРАЦИЈА КАВИТЕТА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 </a:t>
            </a:r>
            <a:r>
              <a:rPr b="0" lang="en-GB" sz="3600" spc="-1" strike="noStrike">
                <a:solidFill>
                  <a:srgbClr val="1e5155"/>
                </a:solidFill>
                <a:latin typeface="Calibri"/>
              </a:rPr>
              <a:t>IV 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КЛАСЕ</a:t>
            </a:r>
            <a:br>
              <a:rPr sz="3600"/>
            </a:b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pic>
        <p:nvPicPr>
          <p:cNvPr id="284" name="Picture 2" descr="http://www.styleitaliano.org/uploaded_images/articles/11203/b65b4af0.jpg"/>
          <p:cNvPicPr/>
          <p:nvPr/>
        </p:nvPicPr>
        <p:blipFill>
          <a:blip r:embed="rId1"/>
          <a:stretch/>
        </p:blipFill>
        <p:spPr>
          <a:xfrm>
            <a:off x="231840" y="1419120"/>
            <a:ext cx="2948040" cy="19656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4" descr="http://www.styleitaliano.org/uploaded_images/articles/11203/f257dbf4.jpg"/>
          <p:cNvPicPr/>
          <p:nvPr/>
        </p:nvPicPr>
        <p:blipFill>
          <a:blip r:embed="rId2"/>
          <a:stretch/>
        </p:blipFill>
        <p:spPr>
          <a:xfrm>
            <a:off x="3322800" y="1419120"/>
            <a:ext cx="2887560" cy="19702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6" descr="http://www.styleitaliano.org/uploaded_images/articles/11203/baa7c43f.jpg"/>
          <p:cNvPicPr/>
          <p:nvPr/>
        </p:nvPicPr>
        <p:blipFill>
          <a:blip r:embed="rId3"/>
          <a:stretch/>
        </p:blipFill>
        <p:spPr>
          <a:xfrm>
            <a:off x="6332400" y="1419120"/>
            <a:ext cx="2660760" cy="19656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8" descr="http://www.styleitaliano.org/uploaded_images/articles/11203/adfe31db.jpg"/>
          <p:cNvPicPr/>
          <p:nvPr/>
        </p:nvPicPr>
        <p:blipFill>
          <a:blip r:embed="rId4"/>
          <a:stretch/>
        </p:blipFill>
        <p:spPr>
          <a:xfrm>
            <a:off x="231840" y="3603600"/>
            <a:ext cx="2948040" cy="19652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0" descr="http://www.styleitaliano.org/uploaded_images/articles/11203/ea3da0d9.jpg"/>
          <p:cNvPicPr/>
          <p:nvPr/>
        </p:nvPicPr>
        <p:blipFill>
          <a:blip r:embed="rId5"/>
          <a:stretch/>
        </p:blipFill>
        <p:spPr>
          <a:xfrm>
            <a:off x="3322800" y="3603600"/>
            <a:ext cx="2873160" cy="19702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2" descr="http://www.styleitaliano.org/uploaded_images/articles/11203/b82667a0.jpg"/>
          <p:cNvPicPr/>
          <p:nvPr/>
        </p:nvPicPr>
        <p:blipFill>
          <a:blip r:embed="rId6"/>
          <a:stretch/>
        </p:blipFill>
        <p:spPr>
          <a:xfrm>
            <a:off x="6332400" y="3603600"/>
            <a:ext cx="262116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ПРЕПАРАЦИЈА КАВИТЕТА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 </a:t>
            </a:r>
            <a:r>
              <a:rPr b="0" lang="en-GB" sz="3600" spc="-1" strike="noStrike">
                <a:solidFill>
                  <a:srgbClr val="1e5155"/>
                </a:solidFill>
                <a:latin typeface="Calibri"/>
              </a:rPr>
              <a:t>IV 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КЛАСЕ</a:t>
            </a:r>
            <a:br>
              <a:rPr sz="3600"/>
            </a:b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pic>
        <p:nvPicPr>
          <p:cNvPr id="291" name="Picture 2" descr="http://www.styleitaliano.org/uploaded_images/articles/11203/dffc34f8.jpg"/>
          <p:cNvPicPr/>
          <p:nvPr/>
        </p:nvPicPr>
        <p:blipFill>
          <a:blip r:embed="rId1"/>
          <a:stretch/>
        </p:blipFill>
        <p:spPr>
          <a:xfrm>
            <a:off x="231840" y="1438200"/>
            <a:ext cx="2935080" cy="19749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4" descr="http://www.styleitaliano.org/uploaded_images/articles/11203/c48673ce.jpg"/>
          <p:cNvPicPr/>
          <p:nvPr/>
        </p:nvPicPr>
        <p:blipFill>
          <a:blip r:embed="rId2"/>
          <a:stretch/>
        </p:blipFill>
        <p:spPr>
          <a:xfrm>
            <a:off x="3300480" y="1438200"/>
            <a:ext cx="2859120" cy="19749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6" descr="http://www.styleitaliano.org/uploaded_images/articles/11203/e7330b8e.jpg"/>
          <p:cNvPicPr/>
          <p:nvPr/>
        </p:nvPicPr>
        <p:blipFill>
          <a:blip r:embed="rId3"/>
          <a:stretch/>
        </p:blipFill>
        <p:spPr>
          <a:xfrm>
            <a:off x="6265800" y="1452600"/>
            <a:ext cx="2687760" cy="19652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http://www.styleitaliano.org/uploaded_images/articles/11203/e051cce6.jpg"/>
          <p:cNvPicPr/>
          <p:nvPr/>
        </p:nvPicPr>
        <p:blipFill>
          <a:blip r:embed="rId4"/>
          <a:stretch/>
        </p:blipFill>
        <p:spPr>
          <a:xfrm>
            <a:off x="231840" y="3562200"/>
            <a:ext cx="3610080" cy="240696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0" descr="http://www.styleitaliano.org/uploaded_images/articles/11203/a6d9bbfa.jpg"/>
          <p:cNvPicPr/>
          <p:nvPr/>
        </p:nvPicPr>
        <p:blipFill>
          <a:blip r:embed="rId5"/>
          <a:stretch/>
        </p:blipFill>
        <p:spPr>
          <a:xfrm>
            <a:off x="4081320" y="3562200"/>
            <a:ext cx="4872240" cy="24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ХВАЛА НА ПАЖЊ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ЛОКАЛИЗАЦИЈА </a:t>
            </a: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КАВИТЕТА </a:t>
            </a:r>
            <a:r>
              <a:rPr b="0" lang="en-GB" sz="3600" spc="-1" strike="noStrike">
                <a:solidFill>
                  <a:srgbClr val="1e5155"/>
                </a:solidFill>
                <a:latin typeface="Calibri"/>
              </a:rPr>
              <a:t>IV 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КЛАСЕ</a:t>
            </a: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21840" y="1466640"/>
            <a:ext cx="4938840" cy="49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Апроксималне површине предњих зуба са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оштећењем инцизалног угл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Могу настати к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ао последица каријесног процеса или механичког оштећења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Picture 5" descr="DelovanjeSila01"/>
          <p:cNvPicPr/>
          <p:nvPr/>
        </p:nvPicPr>
        <p:blipFill>
          <a:blip r:embed="rId1"/>
          <a:stretch/>
        </p:blipFill>
        <p:spPr>
          <a:xfrm>
            <a:off x="4913280" y="4229280"/>
            <a:ext cx="4032360" cy="23810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" descr="Rezultat slika za tooth clas iv cavity"/>
          <p:cNvPicPr/>
          <p:nvPr/>
        </p:nvPicPr>
        <p:blipFill>
          <a:blip r:embed="rId2"/>
          <a:stretch/>
        </p:blipFill>
        <p:spPr>
          <a:xfrm>
            <a:off x="322200" y="4440240"/>
            <a:ext cx="4486320" cy="21700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" descr="http://pocketdentistry.com/wp-content/uploads/285/img0367.jpg"/>
          <p:cNvPicPr/>
          <p:nvPr/>
        </p:nvPicPr>
        <p:blipFill>
          <a:blip r:embed="rId3"/>
          <a:stretch/>
        </p:blipFill>
        <p:spPr>
          <a:xfrm>
            <a:off x="4913280" y="1762200"/>
            <a:ext cx="40179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ЛОКАЛИЗАЦИЈА КАВИТЕТА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 </a:t>
            </a:r>
            <a:r>
              <a:rPr b="0" lang="en-GB" sz="3600" spc="-1" strike="noStrike">
                <a:solidFill>
                  <a:srgbClr val="1e5155"/>
                </a:solidFill>
                <a:latin typeface="Calibri"/>
              </a:rPr>
              <a:t>IV 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КЛАСЕ</a:t>
            </a: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21840" y="1466640"/>
            <a:ext cx="4938840" cy="49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Мезијални инцизални угао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екутића чешће подлеже оштећењу него дистал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Због анатомо-морфолошког облика секутића, јер мезијални инцизални угао има карактер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оштрог угла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а дистални је заобљен и заклапа туп уга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Picture 12" descr="cetvrtaKlasa02"/>
          <p:cNvPicPr/>
          <p:nvPr/>
        </p:nvPicPr>
        <p:blipFill>
          <a:blip r:embed="rId1"/>
          <a:stretch/>
        </p:blipFill>
        <p:spPr>
          <a:xfrm>
            <a:off x="5508720" y="1700280"/>
            <a:ext cx="3267000" cy="23065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3" descr="cetvrtaKlasaNovi"/>
          <p:cNvPicPr/>
          <p:nvPr/>
        </p:nvPicPr>
        <p:blipFill>
          <a:blip r:embed="rId2"/>
          <a:stretch/>
        </p:blipFill>
        <p:spPr>
          <a:xfrm>
            <a:off x="5508720" y="4240080"/>
            <a:ext cx="326700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ПРЕПАРАЦИЈА КАВИТЕТА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 </a:t>
            </a:r>
            <a:r>
              <a:rPr b="0" lang="en-GB" sz="3600" spc="-1" strike="noStrike">
                <a:solidFill>
                  <a:srgbClr val="1e5155"/>
                </a:solidFill>
                <a:latin typeface="Calibri"/>
              </a:rPr>
              <a:t>IV 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КЛАСЕ</a:t>
            </a:r>
            <a:br>
              <a:rPr sz="3600"/>
            </a:br>
            <a:r>
              <a:rPr b="1" lang="sr-RS" sz="3600" spc="-1" strike="noStrike">
                <a:solidFill>
                  <a:srgbClr val="1e5155"/>
                </a:solidFill>
                <a:latin typeface="Calibri"/>
              </a:rPr>
              <a:t>РЕТЕНЦИЈА</a:t>
            </a: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21840" y="1466640"/>
            <a:ext cx="6140520" cy="49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Величине оштећењ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Вестибуло-оралног промера зуб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Близине пулп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Загрижаја пацијен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7" name="Picture 2" descr="Rezultat slika za incisal filling retention"/>
          <p:cNvPicPr/>
          <p:nvPr/>
        </p:nvPicPr>
        <p:blipFill>
          <a:blip r:embed="rId1"/>
          <a:stretch/>
        </p:blipFill>
        <p:spPr>
          <a:xfrm>
            <a:off x="5884920" y="1246320"/>
            <a:ext cx="2584440" cy="26575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8" descr="25"/>
          <p:cNvPicPr/>
          <p:nvPr/>
        </p:nvPicPr>
        <p:blipFill>
          <a:blip r:embed="rId2"/>
          <a:stretch/>
        </p:blipFill>
        <p:spPr>
          <a:xfrm>
            <a:off x="4454640" y="4124160"/>
            <a:ext cx="4014720" cy="25290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4" descr="Rezultat slika za incisal bite"/>
          <p:cNvPicPr/>
          <p:nvPr/>
        </p:nvPicPr>
        <p:blipFill>
          <a:blip r:embed="rId3"/>
          <a:stretch/>
        </p:blipFill>
        <p:spPr>
          <a:xfrm>
            <a:off x="210960" y="4262400"/>
            <a:ext cx="402912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ПРЕПАРАЦИЈА КАВИТЕТА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 </a:t>
            </a:r>
            <a:r>
              <a:rPr b="0" lang="en-GB" sz="3600" spc="-1" strike="noStrike">
                <a:solidFill>
                  <a:srgbClr val="1e5155"/>
                </a:solidFill>
                <a:latin typeface="Calibri"/>
              </a:rPr>
              <a:t>IV 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КЛАСЕ</a:t>
            </a:r>
            <a:br>
              <a:rPr sz="3600"/>
            </a:br>
            <a:r>
              <a:rPr b="1" lang="sr-RS" sz="3600" spc="-1" strike="noStrike">
                <a:solidFill>
                  <a:srgbClr val="1e5155"/>
                </a:solidFill>
                <a:latin typeface="Calibri"/>
              </a:rPr>
              <a:t>РЕТЕНЦИЈА</a:t>
            </a: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21840" y="1466640"/>
            <a:ext cx="5668920" cy="49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Инцизалне тр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ћине предњих зуба у току жвакања изложене су дејству сила које су неповољне за стабилност испуна и теже да га истисну у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вестибуло-оралном и апроксималном смеру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2" name="Picture 2" descr="Before"/>
          <p:cNvPicPr/>
          <p:nvPr/>
        </p:nvPicPr>
        <p:blipFill>
          <a:blip r:embed="rId1"/>
          <a:stretch/>
        </p:blipFill>
        <p:spPr>
          <a:xfrm>
            <a:off x="576360" y="4316400"/>
            <a:ext cx="3525840" cy="21160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" descr="image"/>
          <p:cNvPicPr/>
          <p:nvPr/>
        </p:nvPicPr>
        <p:blipFill>
          <a:blip r:embed="rId2"/>
          <a:stretch/>
        </p:blipFill>
        <p:spPr>
          <a:xfrm>
            <a:off x="6454800" y="2936880"/>
            <a:ext cx="230652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ПРЕПАРАЦИЈА КАВИТЕТА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 </a:t>
            </a:r>
            <a:r>
              <a:rPr b="0" lang="en-GB" sz="3600" spc="-1" strike="noStrike">
                <a:solidFill>
                  <a:srgbClr val="1e5155"/>
                </a:solidFill>
                <a:latin typeface="Calibri"/>
              </a:rPr>
              <a:t>IV 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КЛАСЕ</a:t>
            </a:r>
            <a:br>
              <a:rPr sz="3600"/>
            </a:br>
            <a:r>
              <a:rPr b="1" lang="sr-RS" sz="3600" spc="-1" strike="noStrike">
                <a:solidFill>
                  <a:srgbClr val="1e5155"/>
                </a:solidFill>
                <a:latin typeface="Calibri"/>
              </a:rPr>
              <a:t>РЕТЕНЦИЈА</a:t>
            </a: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22200" y="1466640"/>
            <a:ext cx="5091120" cy="49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Инцизална ивица доњих секутића при жвакању врши притисак на палатиналну површину горњих секутић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Сила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чији је правац продужетак уздужне осовине доњих секутића разлаже се на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позитивну силу 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oja је усмерена аксијално у односу на горње секутиће и н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негативну силу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управну на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силу 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која делује вестибулар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Ако испун нема ретенцију помера га вестибулар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6" name="Picture 1" descr=""/>
          <p:cNvPicPr/>
          <p:nvPr/>
        </p:nvPicPr>
        <p:blipFill>
          <a:blip r:embed="rId1"/>
          <a:stretch/>
        </p:blipFill>
        <p:spPr>
          <a:xfrm>
            <a:off x="5770440" y="1649520"/>
            <a:ext cx="316080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ПРЕПАРАЦИЈА КАВИТЕТА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 </a:t>
            </a:r>
            <a:r>
              <a:rPr b="0" lang="en-GB" sz="3600" spc="-1" strike="noStrike">
                <a:solidFill>
                  <a:srgbClr val="1e5155"/>
                </a:solidFill>
                <a:latin typeface="Calibri"/>
              </a:rPr>
              <a:t>IV 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КЛАСЕ</a:t>
            </a:r>
            <a:br>
              <a:rPr sz="3600"/>
            </a:br>
            <a:r>
              <a:rPr b="1" lang="sr-RS" sz="3600" spc="-1" strike="noStrike">
                <a:solidFill>
                  <a:srgbClr val="1e5155"/>
                </a:solidFill>
                <a:latin typeface="Calibri"/>
              </a:rPr>
              <a:t>РЕТЕНЦИЈА</a:t>
            </a: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21840" y="1466640"/>
            <a:ext cx="8534520" cy="49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ри сечењу хране доњи секутићи инцизалном ивицом притискају инцизалну ивицу горњих секутић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Сила 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која оптерећује инцизални руб испуна разлаже се на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позитивну силу 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негативну силу 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Део притиска преноси се на базу А1-В1 гингивног зида негативне силе теже да изврну испун око тачке А1 која нема базу у гингивном зиду делују као полуга изазивајући одвајање испун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" name="Picture 1" descr=""/>
          <p:cNvPicPr/>
          <p:nvPr/>
        </p:nvPicPr>
        <p:blipFill>
          <a:blip r:embed="rId1"/>
          <a:stretch/>
        </p:blipFill>
        <p:spPr>
          <a:xfrm>
            <a:off x="2446200" y="3936960"/>
            <a:ext cx="4168800" cy="27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83840" y="66600"/>
            <a:ext cx="705636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3600" spc="-1" strike="noStrike">
                <a:solidFill>
                  <a:srgbClr val="1e5155"/>
                </a:solidFill>
                <a:latin typeface="Calibri"/>
              </a:rPr>
              <a:t>ПРЕПАРАЦИЈА КАВИТЕТА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 </a:t>
            </a:r>
            <a:r>
              <a:rPr b="0" lang="en-GB" sz="3600" spc="-1" strike="noStrike">
                <a:solidFill>
                  <a:srgbClr val="1e5155"/>
                </a:solidFill>
                <a:latin typeface="Calibri"/>
              </a:rPr>
              <a:t>IV </a:t>
            </a:r>
            <a:r>
              <a:rPr b="0" lang="en-US" sz="3600" spc="-1" strike="noStrike">
                <a:solidFill>
                  <a:srgbClr val="1e5155"/>
                </a:solidFill>
                <a:latin typeface="Calibri"/>
              </a:rPr>
              <a:t>КЛАСЕ</a:t>
            </a:r>
            <a:br>
              <a:rPr sz="3600"/>
            </a:br>
            <a:r>
              <a:rPr b="1" lang="sr-RS" sz="3600" spc="-1" strike="noStrike">
                <a:solidFill>
                  <a:srgbClr val="1e5155"/>
                </a:solidFill>
                <a:latin typeface="Calibri"/>
              </a:rPr>
              <a:t>ОБЛИК КАВИТЕТА</a:t>
            </a:r>
            <a:endParaRPr b="0" lang="en-US" sz="3600" spc="-1" strike="noStrike">
              <a:solidFill>
                <a:srgbClr val="1e5155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21840" y="1466640"/>
            <a:ext cx="8534520" cy="49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Оклузије и артикулац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Правца и интензитета деловања си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Волумена пулп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Облика зуб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7f7f7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Истрошености зуба -абраз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4" descr="sD14 copy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7T11:23:28Z</dcterms:created>
  <dc:creator>Miloš Papić</dc:creator>
  <dc:description/>
  <dc:language>en-US</dc:language>
  <cp:lastModifiedBy>Miloš Papić</cp:lastModifiedBy>
  <dcterms:modified xsi:type="dcterms:W3CDTF">2017-08-25T16:42:30Z</dcterms:modified>
  <cp:revision>510</cp:revision>
  <dc:subject/>
  <dc:title>Каријес зуба</dc:title>
</cp:coreProperties>
</file>